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DD43-48CF-473A-AB55-373C6E00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62C-3ABC-4A03-96AA-3AE94D1B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5B1-0E96-4329-AF22-7F4DF978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F4D-FBF5-4360-A7D3-9872274A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0825-34AE-4CEA-A7CE-B56D02FD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A485-AF39-4224-8957-3ECB2785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8325-AAAC-4C03-A534-D57712CD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E6C6-B25E-4CEA-86E4-20E18005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F47C-101C-4286-9B11-70F33503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CDB6-E3E2-42B1-B12E-2E0D740D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D693-568A-4428-8140-14686FD8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64A-371D-459E-9E9B-EF0EA071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055F-571B-4D8A-B6A5-D723ECCB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20F4-BFDB-4728-8A6B-6D94717A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EF33-1C1B-41B8-AC80-C0985D5A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88B6-C9B9-4A2E-A541-53CE245A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4539-8F6D-4ACB-BEE8-14B32FDD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BC2-1A6B-45CC-8721-1F71A703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B7B-D7B2-4D33-BCBB-FF260CB2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777-41DE-49B5-9324-71AAB295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9CF-FD41-4E66-80FD-1D3F2788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F49-4FCA-45FA-BC83-D199527E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27A-58F3-4058-9896-64E797DC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D8B-A53A-40AD-BE71-C4175B1E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AEA0-DE67-4D77-8816-4AF12D75A2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0C24-04E3-4F0B-A90B-E2E312A3C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Times New Roman"/>
              </a:rPr>
              <a:t>Folding Paper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If you could fold a sheet of paper in half 50 times, how thick would the folded paper be?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Estimate first; would it be: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3152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Times New Roman"/>
              </a:rPr>
              <a:t>as thick as your maths text boo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Times New Roman"/>
              </a:rPr>
              <a:t>as high as the desk in front of you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Times New Roman"/>
              </a:rPr>
              <a:t>as tall as the build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8224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Work with a partner and discuss your estimation and the method or strategy by which you think you could solve the problem. 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4266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Do you see any patter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What would help organize your inform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What will you need to answer the ques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1371600"/>
            <a:ext cx="66294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Now to solve the problem.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br>
              <a:rPr sz="2400"/>
            </a:br>
            <a:br>
              <a:rPr sz="2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int:  Do a few folds and count the layers.  Can you find a rule for </a:t>
            </a:r>
            <a:r>
              <a:rPr b="0" i="1" lang="en-US" sz="5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fold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75438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or this problem, a table may be helpful to record--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9840" y="2857680"/>
            <a:ext cx="42865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ff"/>
                </a:solidFill>
                <a:latin typeface="Times New Roman"/>
              </a:rPr>
              <a:t>Number  of fol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ff"/>
                </a:solidFill>
                <a:latin typeface="Times New Roman"/>
              </a:rPr>
              <a:t>Number of laye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ff"/>
                </a:solidFill>
                <a:latin typeface="Times New Roman"/>
              </a:rPr>
              <a:t>Calcul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or this problem, a table may be helpful to record--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786200" y="3357720"/>
          <a:ext cx="3810240" cy="1482480"/>
        </p:xfrm>
        <a:graphic>
          <a:graphicData uri="http://schemas.openxmlformats.org/drawingml/2006/table">
            <a:tbl>
              <a:tblPr/>
              <a:tblGrid>
                <a:gridCol w="1000080"/>
                <a:gridCol w="128592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l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y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lcul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</a:tbl>
          </a:graphicData>
        </a:graphic>
      </p:graphicFrame>
      <p:sp>
        <p:nvSpPr>
          <p:cNvPr id="112" name="Rectangle 17"/>
          <p:cNvSpPr/>
          <p:nvPr/>
        </p:nvSpPr>
        <p:spPr>
          <a:xfrm>
            <a:off x="685800" y="2666880"/>
            <a:ext cx="3352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Number of fo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Number of lay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Calculations</a:t>
            </a:r>
            <a:br>
              <a:rPr sz="2800"/>
            </a:b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Explain, in your own words, how the rule works and what you did to figure out the answ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id you expect the findings you got?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id exponents and scientific notation play a part in you work? 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6T05:18:56Z</dcterms:created>
  <dc:creator>C.U.S.D.</dc:creator>
  <dc:description/>
  <dc:language>en-US</dc:language>
  <cp:lastModifiedBy>Carol Moule</cp:lastModifiedBy>
  <dcterms:modified xsi:type="dcterms:W3CDTF">2010-08-08T05:37:11Z</dcterms:modified>
  <cp:revision>10</cp:revision>
  <dc:subject/>
  <dc:title>Folding Paper</dc:title>
</cp:coreProperties>
</file>